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E00-4F4B-4CF8-85CA-5B6F061A227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94F-DA2B-494F-84B9-E8EE8968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231-FED8-4B20-9C86-2EE59268D0C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5BBB-692A-4315-8D4F-317D706DCEF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53FC-B972-460E-8BE9-F787F0584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7C04-F595-4750-9570-CA508C67A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3CC1-0086-4557-A680-002E45BC2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6D53-DCB2-4157-BF26-5B6AAF143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B315-8100-4EC3-9C3E-1293812ED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8DE8-668C-4061-8215-01A929E7C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50FA-D83C-490A-A2B4-852A425ED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9329-B3CD-43CA-9B71-DE1BF98EE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1E58-A05A-4429-93EF-1342E1283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4088-A16C-4F31-B44A-9902F27FF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88AA-0A58-43A7-98B9-093E2351C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BAEA-9593-4253-8C34-CAA6AF3EF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B77-2509-48A9-85F1-812B6B67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多媒体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94F-DEF4-433A-AA54-807F24BB78E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截取屏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浏览动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制声音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4E5-0A4E-407F-93CC-C4D887BAD62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媒体文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本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图形图像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画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视频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音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499-BD2F-40C5-8D82-25C34A6D68D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B8F-21E1-489C-9088-19FF57B2118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图像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A51-3E17-45D4-A4D4-0836553C66C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像的预览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的基本操作，包括图像查看、图像缩放、保存图像文件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F84-CF69-46CB-8F0A-25C7F6B37BD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缩略图查看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幻灯片查看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快速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完整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相片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文件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52A-2674-4865-8631-C4D1FE3EA89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速查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理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修正和改善你的照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享你最喜欢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家庭打印轻而易举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你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8B4-808C-426B-871A-552C3B5008E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E893-6820-4669-B4F1-0F3F6EB6F94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图像的常用加工工具，掌握加工图像的基本操作，包括调整图像、添加图像效果、保存加工结果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BF94-33AC-476B-85AB-15B86BC0BD7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像自动曝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亮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图像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DBA-9F90-4E44-9F93-0A5DFBCC518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2949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与人之间进行信息交流，可以使用文字、图形、图像、声音、动画、视频等多种形式。随着社会不断进步，科学技术不断发展，现代多媒体计算机已经能够结合各种视觉和听觉信息，制作出令人印象深刻的视听作品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媒体技术是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后十年发展的高新技术，是音频信号数字化技术、视频信号数字化技术和计算机技术相结合的产物。多媒体技术的形成和发展，不仅引起计算机工业的一次革命，也影响人类社会发生了一次巨大的变革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通过截取屏幕内容、录制声音等操作、学习常见的多媒体软件（如录音机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的使用，理解多媒体技术相关知识，掌握多媒体素材的采集方法、多媒体文件的浏览和播放，能够做到和与家人、朋友一同享受计算机多媒体世界的影音视听娱乐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FAEA-1E24-4396-A13F-E5205DEDD3C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像素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辨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2C0-4A79-4497-8524-7A165E3341E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2DEB-857E-427C-A12A-B5622481710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给图像的添加文本的基本操作，包括输入文本、调整阴影等。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E129-B2D6-4CFA-B359-8C59F0F5D7D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阴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斜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3DF-13F3-4482-8B7C-1D89BD1D497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印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6E9-DEB0-4FE6-82FA-EE9C418DF17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CE6B-D221-4454-A2C0-B1276B3A761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音频视频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“录音机”处理音频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341-D1B3-41A0-8C93-42E2D548C58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音频的播放，以及设置可视化效果、调整播放器的外观、播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V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影、管理媒体库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翻录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76E-51CB-4BE1-9C9C-723904C828E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3695040"/>
            <a:ext cx="4164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5E1-EE93-4682-8C6A-95C614443D6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375F-350B-41FA-8976-52C207B87A5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多媒体技术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图像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音频视频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53D2-A2F5-451A-83CC-4085D8792C1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D17-439C-4AB3-923C-FB68D7D7EBA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中音频处理的操作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录音机”软件处理音频的常用操作，包括打开声音文件、声音效果、声音编辑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059-996B-49D6-96BD-FFC1E0D3E33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B70-9D75-4957-AD8A-1AF05F3C803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GoldWav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音频编辑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声效果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衡器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4901-4881-4E5A-B1B8-99368D3E273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451-103C-480A-9DC0-892E06E825D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制作视频的过程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的操作，包括打开导入视频、连接视频、视频效果、视频过渡、保存电影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AD5-D3F0-42EE-A48B-6C83A56FF7A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备素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导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连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过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78200" y="2634480"/>
            <a:ext cx="22831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0387-0C3A-4D84-B29B-74FB110A721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头和片尾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obe Premiere Pro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声会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D21-0672-42D5-A20A-63A8DBCD3A5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695D-1AB6-45D9-B1D8-4B5448E75A8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6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2BA-6073-41DE-9ABA-1EB4031AD7E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多媒体技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多媒体技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多媒体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796-AB17-415D-A410-AEF81821A7A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媒体的分类，理解文本、图形、图像、动画、音频和视频六大基本的多媒体元素。能够浏览图像和播放音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CB6-6E2A-4939-B6BE-F6B84AF06BF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440" y="1234800"/>
            <a:ext cx="228312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1B88-CC91-4E63-BF5C-A5C3EA9EC5B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12B-1CC3-4921-96EA-657CAAA8332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863C-3C42-486A-BC3C-9D2F4EE3E83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常见多媒体文件格式，通过浏览动画和播放视频，了解多媒体文件格式，掌握浏览多媒体文件的方法，并通过截取屏幕抓图和简单的录音操作，掌握图像、声音等多媒体素材的采集方法。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单淮峰</cp:lastModifiedBy>
  <dcterms:modified xsi:type="dcterms:W3CDTF">2009-09-02T13:50:50Z</dcterms:modified>
  <cp:revision>128</cp:revision>
  <dc:subject/>
  <dc:title>图书馆资源整合与门户建设</dc:title>
</cp:coreProperties>
</file>