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2DCB-DF99-4DB4-B09E-E0F6EA863C04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CC9A-CCB2-47E0-A45E-5E8D37C48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9F90-CB90-4C82-B5F3-ACE740CFBC5A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6254-38D6-4DBA-A789-4200AF874B1A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AD89-0C14-4943-845F-542159FE9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6659-1267-4C9E-9B46-DBED69A6F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11BB-17FD-423A-8CF7-B62BD40D6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71B0-288A-4E1A-8D41-A403B1243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9DB3-05AF-4F32-83ED-01746E932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B72F-E491-4E6A-A2D7-50C293121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1F42-3954-4C30-B6D9-A3153DAB6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5E32-8DBE-4A53-94DB-BE202A1A0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7FC6-EDA2-49FE-91E4-FC5539D60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0457-9525-4346-BFFD-3FF5A781D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4111-BC9E-4832-A5C0-353A66FEF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8823-5335-4A2D-B9F4-1A49B7F72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计算机应用基础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963720"/>
            <a:ext cx="914076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8E51-01E3-4CAB-B380-B32DB9708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63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-11160" y="2060640"/>
            <a:ext cx="9155160" cy="276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835280" y="1844640"/>
            <a:ext cx="51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章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indows XP</a:t>
            </a:r>
            <a:endParaRPr b="0" lang="en-US" sz="4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6D96-F617-4FBE-BC67-C82351873E7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桌面图标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任务栏和开始菜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操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窗口与对话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4C6B-555E-45BD-BFDF-6FA7B7B233E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鼠标操作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的帮助功能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快捷键的使用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89B4-99A5-4FA7-9E92-C5F8046A48E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双击桌面上的“我的文档”图标，观察打开的窗口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指出窗口的各组成部分名称，然后分别单击窗口右上角的、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和按钮，观察窗口发生怎样的变化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通过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Windows XP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桌面，打开“我的电脑”窗口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并完成移动窗口、改变窗口大小、排列窗口（打开多个窗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）、最大化、最小化、关闭窗口等操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在“我的电脑”窗口，观察“查看”菜单中哪些菜单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打开对话框？哪些菜单含有下一级菜单？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双击桌面“我的电脑”图标，打开“我的电脑”窗口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分别浏览“文件”菜单和“编辑”菜单，观察所包含的菜单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令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A1F9-D920-4299-A449-BFFB97B907D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2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文件资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资源管理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理我的文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34A0-B8BB-4534-8025-6E3B2C0AAA6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熟练使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源管理器来管理自己的数据资源。主要包括资源管理器以及文件、文件夹显示属性的设置等内容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AED5-6578-4BBF-A7AC-97B25F6E84D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4824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打开“资源管理器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“资源管理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文件夹列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件与文件夹的显示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277C-FA5B-4539-9288-D06F1FB2A9D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及文件系统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夹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9509-E2B2-40FE-962A-0F9DF327D1B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打开“我的文档”文件夹，它包含哪几种不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类型的文件夹图标？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在“资源管理器”窗口中展开一个文件夹，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分别使用“查看”菜单中的“名称”、“类型”、“大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”和“修改时间”排列图标，观察窗口文件列表的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列方式有何不同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启动“资源管理器”，以“缩略图”的方式查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tur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夹下的所有图片文件，并显示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的扩展名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F85E-48A4-485B-8988-AA384409497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427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掌握文件及文件夹的基本操作，如文件及文件夹的创建、选择、复制和删除等操作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0548-7B64-4D29-B636-52C4C5EFC58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4824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建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重命名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选择文件或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复制、移动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删除与恢复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115E-CE9D-4E13-95A9-830327F9590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系统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perating Syste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简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是管理计算机软硬件资源并为用户提供操作环境的的系统软件，是计算机系统的内核与基石。它使计算机系统所有资源最大限度地发挥作用，也为用户提供了方便、有效、友善的服务界面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6DB0-108A-4F84-B6E9-B156D6BD238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回收站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或文件夹的搜索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D846-E46C-4FE9-851A-52E4346874C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我的文档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分别创建名称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文件夹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在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夹中建立一个文本文件，文件名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内容自定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分别创建桌面快捷方式和快捷方式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双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的快捷方式，观察操作结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至少采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不同的方法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复制到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夹中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删除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文件夹及桌面快捷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并清空回收站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4AC2-EF43-4DE6-9BCF-113D9DAE3D2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建立简单文档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写字板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50A1-9C28-4165-91B6-FA3DA18BF22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了解写字板的基本操作，能进行中英文输入法的切换，并熟练掌握一两种常用的中文输入法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0287-81E2-4B75-AE61-D62D0CE22D6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37544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写字板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英文输入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5F27-FEC8-4EE2-A3F8-AEC40765AFE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入法选择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汉字编码方法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C533-F4E7-474D-9657-4E3F9F1074B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写字板，使用搜狗拼音输入法或其他输入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，输入如下一段文字，然后保存起来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极光是一种大气光学现象。当太阳黑子、耀斑活动剧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烈时，太阳发出大量强烈的带电粒子流，沿着地磁场的磁线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向南北两极移动，它以极快的速度进入地球大气的上层，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能量相当于几万或几十万颗氢弹爆炸的威力。由于带电粒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速度很快，碰撞空气中的原子时，原子外层的电子便获得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量。当这些电子获得的能量释放出来，便会辐射出一种可见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的光束，这种迷人的色彩就是极光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4694-9143-4D24-88F2-4E75CB120BB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画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了解画图工具的使用方法，并能进行简单的图片处理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BB88-9CAD-4C09-BF1E-3D69B905400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启动画图程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创建及处理图片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画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0707-6326-4167-8908-DB0FF950C3E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使用画图程序打开一幅图片，将图片分别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做水平翻转、垂直翻转及按一定角度旋转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使用画图程序绘制一个奥运五环标记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画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B297-0FF3-49BB-A428-E3DD7435976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1  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Windows XP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2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管理文件资料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3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建立简单文档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4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管理我的计算机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5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维护我的计算机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pic>
        <p:nvPicPr>
          <p:cNvPr id="100" name="Picture 7" descr="MCj04355460000[1]"/>
          <p:cNvPicPr/>
          <p:nvPr/>
        </p:nvPicPr>
        <p:blipFill>
          <a:blip r:embed="rId1"/>
          <a:stretch/>
        </p:blipFill>
        <p:spPr>
          <a:xfrm>
            <a:off x="6261120" y="4370400"/>
            <a:ext cx="21272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4958-3CF0-4EF9-BFB4-8D39532B184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4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计算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系统属性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的安装与卸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76D5-319E-48E5-8A3F-C3ED48B93C9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熟悉利用控制面板设置系统属性的基本方法，包括桌面、鼠标等属性的设置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364A-6F21-4E15-9808-596EE33056A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339640" y="2060640"/>
            <a:ext cx="3754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打开“控制面板”窗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鼠标和键盘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美化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DDBB-4F31-408C-A7D8-087E68D81E2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键盘属性”对话框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置屏幕保护程序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F7F6-4EE6-4ACA-B609-8B8BA6BDAB9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设置鼠标指针方案为“变奏”，观察设置的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分别设置鼠标滚轮的滚动幅度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和一个屏幕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然后打开一个含有多页的长文档，观察设置的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设置桌面的主题和背景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⑴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“显示属性”对话框的“主题”下拉列表中，分别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择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经典”作为主题，观察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屏幕设置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⑵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“桌面”选项卡中，选择不同的背景文件名，观察预览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⑶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“桌面”选项卡中，找一张照片作为桌面背景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设置屏幕保护程序和外观：在“屏幕保护程序”选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卡中，选择屏幕保护图形为“飞越星空”、等待时间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钟，并预览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657B-F257-4EDF-ACD5-0DB022F32DB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使读者学会应用软件的安装、卸载以及外部设备驱动程序的安装操作，并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R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的使用方法。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577F-0ECE-4194-BB05-90BAA66E4FA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安装和卸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软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软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安装和使用打印机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2CD5-9D40-49E4-BF39-5AE9437424E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压缩文件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压压缩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部设备的安装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CF28-7E94-4EBF-A87D-09C54B3823E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将你电脑中的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卸载，并重新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下载安装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的最新版本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利用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将“我的文档”文件夹压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缩为“我的文档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.rar”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，并保存到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盘中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如果有扫描仪或数码相机，试将其连接到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计算机上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64F5-D8FB-4C94-938D-A1BD31E59D0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5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维护我的计算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盘管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病毒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的备份与恢复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3CDB-7BBC-4CBD-A7BF-43378E4B976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1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启动与退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D6AB-F1A9-4B35-86CE-F88E5A8B645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计算机使用一段时间之后，硬盘上将会产生很多磁盘碎片或大量的临时文件，致使磁盘运行空间不足，系统运行越来越慢，计算机性能下降。通过本任务的学习，将学会使用磁盘碎片整理程序和磁盘清理程序维护计算机，提高计算机的性能。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4B8A-7D78-4A93-A8C5-6CB1232265A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整理磁盘碎片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理磁盘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8BE7-812C-4622-8EA6-4EBB05C2014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磁盘管理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启动磁盘管理程序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6C43-90D9-4B10-AEDB-641F4D59CCE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对你使用的计算机的系统盘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）进行碎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片整理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对你使用的计算机磁盘进行磁盘清理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A3E6-A48A-4BF8-9E25-8AF11F30F56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着互联网的迅猛发展，各种病毒也层出不穷，给人们的工作和生活带来了极大的危害，本任务主要教给大家防病毒的基本知识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01BC-EA8E-449F-8E41-1D1FF18DE19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了解计算机病毒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6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安全卫士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1433-FDE9-4CB3-93D2-F1886B92B33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SET NOD3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毒软件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创建用户账户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FCDA-5A3D-45D2-9CE7-2261ED6F6C1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下载安装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360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安全卫士，使用它提供的各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种功能保护计算机的安全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下载安装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ESET NOD3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，并使用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查杀病毒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D2E2-0131-4CEC-8AE5-32E4FEA9054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计算机的使用过程中，要养成定期备份重要数据的习惯，以避免因不当操作导致数据丢失，给自己的学习和工作带来一定的麻烦，本任务将教给大家备份和还原数据的基本方法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FA05-16D1-4500-A56F-7DD6683450E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备份数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还原数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C73C-07F1-4099-AAA0-F607481D514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熟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工作环境，掌握启动与退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基本方法，并了解操作系统的特点、功能及类型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1E7F-0AB2-477E-80FF-40E5EE74EE4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rton Ghos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键还原精灵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7B4D-782F-4E65-97AB-B0232CF2489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利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系统自带的备份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具，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中的“学生数据”文件夹中的数据备份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中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试利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rton Gho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软件备份和还原操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系统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2589-571F-4C7F-B1A6-4EB34BB8B5C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7" name="WordArt 2"/>
          <p:cNvSpPr txBox="1"/>
          <p:nvPr/>
        </p:nvSpPr>
        <p:spPr>
          <a:xfrm>
            <a:off x="2556000" y="2565360"/>
            <a:ext cx="41767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025A-CB05-4766-98FE-D88878DE9CB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37544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启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退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en-US" sz="24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801D-9A77-4179-A0E1-7EDFADA9DB5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系统的功能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 XP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系统的特点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三个版本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F962-B400-4D12-BB4D-B0CAFFE9574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别选择“关闭计算机”对话框中的“待机”、“关闭”和“重新启动”选项，观察三者操作有什么不同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03EB-0C13-4A18-B42A-9E6263D521C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2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桌面的组成以及各基本元素的操作，为进一步学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系统奠定基础 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1:59:57Z</dcterms:created>
  <dc:creator>wtj</dc:creator>
  <dc:description/>
  <dc:language>en-US</dc:language>
  <cp:lastModifiedBy>USER</cp:lastModifiedBy>
  <dcterms:modified xsi:type="dcterms:W3CDTF">2009-09-11T05:50:40Z</dcterms:modified>
  <cp:revision>123</cp:revision>
  <dc:subject/>
  <dc:title>图书馆资源整合与门户建设</dc:title>
</cp:coreProperties>
</file>