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22D-7E70-49D4-AC79-B261E041792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360-449C-4016-835E-E78A7C30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85C-2E72-49A9-9AF5-F6C738749BD2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5B93-2B3C-4ADB-B0A9-306BDA5D977E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3320-857D-42E5-A6E3-6067BE7DD761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57F-A607-4913-8DD7-5C4A4408C86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1E5A-169D-424E-99DE-7A2B07010DC6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737-67DA-4300-994B-8BEAC3FF758D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F6D-24FA-4E2C-ACFD-9D752423EE50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F230-1A31-454C-9E3E-E51923EC35F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79A0-8465-40BC-A286-4443A2E9597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0D6-4C5E-4A90-8045-765D0E30A8D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217A-B49F-4266-8D10-22E098A1E332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6EC-3F4D-45FA-8964-B36EE3A7124E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5100-26FD-4115-AFB8-D8E70E67495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5429-0BE8-4D55-833C-08259DECDD1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FA8-16C9-42B2-9A0B-D441AF316347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A694-3A71-4BDC-A657-D1D3A4F3BF35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793E-4FD9-473F-B286-18632DDE7F75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C6C-C6E3-42B6-97AA-A8E314025CA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1293-BAA6-4494-BD7D-C99451BA905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B2DE-666F-4B5F-836F-8C0A4C1E856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AB8-7E2C-4A62-9384-E482B26E2A8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6A5-6390-48D1-94A9-D26FEF31D61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556-F9FA-49DB-9FA1-08C510AACD0C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D7F-2D87-4E60-937D-0E93D3A511C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38F-197D-4ED7-9999-105B93D022D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6AC-4CF2-4F24-B75D-9A8107E86D87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7414-8F7E-4CFE-A1BC-8C3B643F1BA7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745-837D-4D9E-BF40-6C45D896AA81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DCD-FFF5-4F6B-BECE-0E426A81075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AA80-97D0-479A-B573-68F5756CAA85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0675-0F0B-42FC-A95C-B73BCAF83A5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B38-9586-4F3B-8425-E7DFDCA8E75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A6FB-41D8-481A-A074-ADC21B736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C9C2-6869-4CAC-A32C-B5EA5CEDD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37C6-C52B-4EBB-AE53-68C6B2919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951E-BE2C-4B02-89EC-90F5FD7C3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C028-74E9-42E0-80BC-517F47E23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FB28-F066-48D2-8A8D-89C6FDEF6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2CF-755D-4ADC-8A33-1D2F675F4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7E3C-6B89-422A-AC16-5748F9F45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2ABC-A626-44E1-9162-27DBBF526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5D0A-C334-4A7A-8BAC-AD7954B66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7B85-F6B0-484A-99D3-0A4668B4A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3692-781B-4FCB-AFF2-CB3BC1C9B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1663-7E3C-48C7-8AAB-3251C1A5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文字处理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400" y="2214360"/>
            <a:ext cx="8001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快速访问工具栏中的“保存”按钮，或 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 “保存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档的第一次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是第一次保存，会弹出“另存为”对话框，在对话框中选择文档所要保存的位置 ，输入要保存的文件名，选择要保存的文件的格式（系统默认格式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”），单击“保存”按钮即可。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2007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的默认扩展名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.DOCX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590-412E-42E7-91AB-B070EE853D7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保存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400" y="2214720"/>
            <a:ext cx="8429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组合键切换不同中文输入法，在插入点后录入文本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英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空格”在英文输入法与当前中文输入法之间进行快速切换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录入特殊字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 → 在“特殊符号组”里选择合适的符号，或单击符号按钮，再单击“更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，打开“插入特殊符号”窗口，找到所需的特殊符号后，双击即可在当前位置插入特殊字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D50-19BB-44F2-87FA-9668532C179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录入文档内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3880" y="23572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选择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可以用键盘或鼠标进行文本的选择，结合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键可以进行多种方式的选择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移动、复制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编辑内容的撤消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9173-2F92-413C-A321-4A6B1899879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编辑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85880" y="2357280"/>
            <a:ext cx="7500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关闭当前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文档窗口右上方的“关闭”按钮，或使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中的“关闭”命令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 → 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，系统会关闭所有的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窗口，并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程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22D2-1904-4D61-BFE4-06F05E0D14A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退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28440" y="2214360"/>
            <a:ext cx="4714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页面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阅读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大纲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普通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896-7ED5-46F5-A045-9F9D49F3AE5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4240" y="1357200"/>
            <a:ext cx="59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视图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353-1A2D-4EB6-BDBC-4A7BE23C21F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档属性的设置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密文档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查找与替换文本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BF53-F825-4D68-9835-A52CCC1339E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能够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文本与段落格式设置的基本操作方法，为进一步美化文档奠定基础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51A-FE48-47F0-BAD0-67B09B3BFD5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形及字体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符缩放、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对齐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缩进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行间距与段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项目符号与编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边框和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首字下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00" y="2214720"/>
            <a:ext cx="8258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的中文字体是宋体，常用字体有：宋体、仿宋、黑体、楷体、隶书等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体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开始”选项卡 → 单击“字体”下拉列表框右侧的下拉箭头 → 出现下拉列表框，拖动列表框右边的滚动条，选择合适的字体，如“方正舒体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739D-427C-4116-BE0F-D0AAAD5D93A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体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字号为五号，字号大小有两种标准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号制：初号、小初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八号，字号的标称数越小，字形越大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制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7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字号的标称数越小，字形越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开始”选项卡 → “字号”下拉列表框右侧的小箭头，弹出下拉列表框，选择合适的字号，如“一号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E71-2C0E-4B59-BA6E-3484FAD9E9E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794-AEFB-4B56-B5B8-97887537A5B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822960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crosof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推出的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下的系列办公软件之一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的基础上进行了大规模的改进而来的，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不但继承了历代版本的特长，而且根据用户的使用习惯和需求进行了更加人性化的改进。它既适合一般办公人员使用，又适合专业排版人员使用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928520"/>
            <a:ext cx="8258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粗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标题文字“一、大赛项目与内容”，单击“字体”功能组中的“加粗”按钮，选中文字的字型变为加粗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斜体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请同学们踊跃参加！”，单出“字体”功能组中的“斜体”按钮，选中文字的字型变为斜体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下划线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所制作的视频文件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..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，单击“字体”组中的“下划线”旁边的小箭头，在弹出的列表框中选择“双下划线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着重号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能独立播放的视频文件”，单击“字体”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着重号”下拉列表框，选择“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”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AF4-E181-47BA-B436-343768061D5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形及字体效果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缩放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择文本，如“本校教学楼六层机房”，单击“字体”功能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字符间距”选项卡，单击“缩放”后面的下拉列表框，选择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15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间距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文本，如 “参赛选手依据大赛组委会提供的文档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这一段内容，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的“字符间距”选项卡中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间距为“加宽”，磅值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A35-68BF-472C-B471-196B6DFECD3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03960" y="135720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符缩放、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居中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居中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右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右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分散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分散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B5B-B706-456B-9453-D5EBD1DC407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对齐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段落的缩进包括四种方式，即左缩进、右缩进、首行缩进和悬挂缩进，可以通过拖动标尺或段落命令两种方式完成，前者直接方便，后者容易精确定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754-090A-4884-9E3C-2D21902A6F5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缩进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行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行间距是指段落中相邻两行之间的距离，段间距包括段前间距与段后间距，段前间距指当前段与上一段之间的距离，段后间距指当前段与下一段之间的距离。通过对间距的设置，可使文档的层次更加清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欲设置的段落，在“段落”对话框中设置“行距”、 “段前”、“段后”值后，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7D15-6CDC-4940-AB83-9B003505424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行间距与段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符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符号的部分，如文档中的“一、大赛项目与内容”下面的三个小标题，再单击“段落”功能组中的“项目符号”按钮旁边的小箭头 ，下拉列表中选择合适的形状符号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编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编号的部分，如文档内容中“三、成绩评定”下面的三个小标题。再单击“段落”功能组中的“编号”按钮旁边的小箭头，在弹出下拉列表中选择合适的格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4E9-2C85-4883-8DAB-07D8AC83492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项目符号与编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4240" y="20718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段落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边框的段落，如“二、比赛时间、地点”下面的内容，单击“段落”功能组中“边框”按钮旁边的小箭头，在弹出的列表中选择“外侧框线”，为选中的部分添加上外侧框线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“三、成绩评定”下第二行的文字“规定部分” ，再单击“字体”功能组中的“字符边框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标题文字“关于计算机技能大赛的通知” ，单击“段落”功能组中“底纹”按钮旁边的小箭头，在打开主题颜色列表中选择准备应用的底纹，如“白色，背景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深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5%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9A7F-F948-47EF-8A2D-1F26126FABA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和底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85880" y="2285640"/>
            <a:ext cx="7143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光标定位于第一段文本中，单击“插入”选项卡，在“文本”功能组中单击“首字下沉”按钮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“首字下沉选项”，在“首字下沉”对话框中设置位置为“下沉”，并设置字体及下沉行数，如字体为“幼圆”，下沉行数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7E7-8773-4ACC-A89C-F78A77BEF6D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十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首字下沉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106-0454-4269-B225-853734F739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000160" y="1714680"/>
            <a:ext cx="4500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样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格式刷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4127-E5FE-42D5-A5C8-95E3D3804C5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学习了设置字符和段落的格式之后，往往还要对整个版面的格式进行设置，以达到最好的打印效果。通过本任务的学习，要求读者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页面格式设置的基本操作方法，并掌握分栏操作、页眉和页脚设置及文档的打印方法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CF1D-29E9-4F1E-B185-410DDAB5F8C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2071440"/>
            <a:ext cx="76042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基础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word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文档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各种表格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电子小报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9742-A71E-4D60-A30E-6940AB20B4D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99800" y="2385720"/>
            <a:ext cx="44290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纸张大小和方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边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分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与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E6C-070F-4E7B-BDF8-A654F2F3350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967760" y="13572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纸张大小和方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ord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默认的纸张大小是办公中最常用的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A4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：单击“页面布局”选项卡， 在“页面设置”功能组中单击“纸张大小”按钮 ，再选择合适的页面大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纸张方向有“纵向”和“横向”两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方向：单击“页面布局”选项卡，在“页面设置”功能组中单击“纸张方向”按钮 ，再按要求选择合适的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B2F-6E57-4E6D-B78B-110522CD88D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边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3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面布局”→ “页面设置”→ 单击“页边距”按钮，在弹出的列表中选择合适的页边距类型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需要的页边距类型在列表中没有列出，则需要选择列表底部的“自定义页边距”，再分别对上、下、左、右边距进行设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3CC-A26C-4852-BBDD-F754C389B5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分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7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采用分栏后，能够让整体页面布局错落有致，多种多样。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要对该“通知”中正文第一段进行了分栏处理，操作方法如下：选中要设置分栏的段落，在“页面布局”选项卡的“页面设置”功能组中，单击“分栏”按钮 ，打开“分栏”对话框，选择“两栏”，单击“确定”按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A59-514B-4EC4-A26C-F4C8C1AE68D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眉与页脚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内容占位符 2"/>
          <p:cNvSpPr/>
          <p:nvPr/>
        </p:nvSpPr>
        <p:spPr>
          <a:xfrm>
            <a:off x="285840" y="2071800"/>
            <a:ext cx="8429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眉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在“插入”选项卡中的“页眉和页脚”功能组中，单击“页眉”按钮 ，选择 “空白”选项，光标处于页眉编辑区，键入文字，并设置文字的字体后，单击 “关闭页眉和页脚”按钮退出页眉编辑状态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页脚”按钮，在弹出页脚列表中选择合适的模板，如“现代型（奇数页）”，系统会自动为页脚添加该模板的图形与页码，再键入内容，设置字体，最后退出页脚编辑状态即可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码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码”，选择“设置页码格式”，在“页码格式”对话框中选择合适的编号格式后，单击“确定”按钮即可完成设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8E0-C906-4DAF-B5C6-FC316395971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打印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500040" y="2071800"/>
            <a:ext cx="8215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预览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预览”，当前窗口变为打印预览窗口，在此窗口中，可对文档的页面进行操作，预览完毕后单击“关闭预览”按钮返回到文档的编辑状态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文档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”，调出“打印”对话框，选择要使用的打印机、页面范围，并输入要打印的数量后，单击确定，即可将文档发送至指定的打印机进行打印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4B1-20F1-4A92-AA80-8DECC303F6D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00120" y="1857240"/>
            <a:ext cx="4500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文字方向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分隔符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7A3D-D2B2-46E9-9111-8B095D59E1F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2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各种表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可以制作各种文本文档，而且可以用来制作各种表格。它在处理表格方面比以前的版本功能更为强大，操作也更方便。在本学习单元中，我们将制作一份学校常用的“课程表”，以此为例学习表格制作的一般方法， 再结合实战训练以达到熟练掌握各种表格的制作方法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AD73-8E67-44C9-BFFA-02692D093FB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85520" y="1963440"/>
            <a:ext cx="38574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表格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表格工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格内容的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、列的插入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元格的合并与拆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929120" y="1963800"/>
            <a:ext cx="38577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文字的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行高，列宽的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绘制斜线表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设置边框与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4023-768C-4CBE-877B-033B3B81042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表格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通过移动鼠标创建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→ “表格”，单击“表格”按钮 ，在出现的“插入表格”列表区域中移动鼠标，选中需要的行、列，单击鼠标左键后即可插入表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使用对话框创建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在单击“表格”按钮后，选择“插入表格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在“插入表格”对话框 中，输入列数、行数，再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表格”按钮后，选择“绘制表格”，指针会变为铅笔状，先绘制一个矩形，以定义表格的外边界，然后在该矩形内绘制列线和行线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38E-7CDF-46E3-BBAC-1B17349894C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基础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ord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技能大赛文档并录入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比赛通知中字体、段落的格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通知的整体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0B8-AD6F-4C29-B4C1-4F792B2FB51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表格工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文档中，当表格处于操作状态时，会自动激活功能区中的 “表格工具”，包括“设计”与“布局”两个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计”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该选项卡主要对表格的外观、样式进行设计。包括“表格样式选项”、“表样式”、“绘图边框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布局”对话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主要对表格的布局进行编辑。包括“表”、“行和列”、“合并”、“单元格大小”、“对齐方式”及“数据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6CC-844C-4248-A56D-6533DACFD59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表格内容的编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内容占位符 2"/>
          <p:cNvSpPr/>
          <p:nvPr/>
        </p:nvSpPr>
        <p:spPr>
          <a:xfrm>
            <a:off x="1071720" y="2214720"/>
            <a:ext cx="6715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录入表格的基本内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选择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单个单元格、连续单元格、不连续的单元格、整行、整列及整个表格的选择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复制、移动与删除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918-282A-4E0C-8E5F-139F50DF192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、列的插入与删除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642960" y="2143080"/>
            <a:ext cx="77151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行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行，在表格工具中的“布局”选项卡中选择“行和列”功能组，再根据要求单击“在上方插入”按钮或“在下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列，在表格工具中的“布局”选项卡中选择“行和列”功能组，再根据要求单击“在左方插入”按钮或“在右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行或列的删除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先将当前插入点置于要删除的行或列中，再单击“行和列”功能组中“删除”按钮 ，在列表中选择“删除行”或“删除列”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A9F1-3FF1-46E6-9FBA-E4794B8E4BA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单元格的合并与拆分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6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合并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合并的单元格， 选择 “布局”选项卡中的“合并”功能组，再单击“合并单元格”按钮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拆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要拆分的单元格（或要重新拆分的多个连续的单元格），单击“合并”功能组中的“拆分单元格”按钮 ，在“拆分单元格”对话框中输入拆分后单元格的行数和列数 ，单击“确定”按钮，即可实现单元格的拆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F722-78E7-4767-B439-55588121DC7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的格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字体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与普通文本的设置方法相同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文字方向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文字方向的单元格，单击“布局”选项卡“对齐”功能组中的“文字方向”按钮 ，文字方向会自动切换为“垂直”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单元格的对齐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对齐的单元格， 选择“布局”选项卡，在“对齐方式”功能组中单击合适的对齐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51DB-F800-407B-9A8E-B84CD5CD469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高，列宽的调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1357200" y="2286000"/>
            <a:ext cx="607248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拖动的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平均分布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设定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C42-5D93-4AC6-889A-4C5D2CDED7C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绘制斜线表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8" name="内容占位符 2"/>
          <p:cNvSpPr/>
          <p:nvPr/>
        </p:nvSpPr>
        <p:spPr>
          <a:xfrm>
            <a:off x="642960" y="2214720"/>
            <a:ext cx="7072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当前插入点定位于表格内，单击“布局”选项卡“表”功能组中的“绘制斜线表头”按钮，弹出“插入斜线表头”对话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表头样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字体大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输入行标题与列标题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确定后，就会在表格的第一行第一列处插入表头。单击生成的斜线表头，移动控制点使其适合所在单元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3CF-BC69-4D3F-9A30-A10721AC0AA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与底纹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2" name="内容占位符 2"/>
          <p:cNvSpPr/>
          <p:nvPr/>
        </p:nvSpPr>
        <p:spPr>
          <a:xfrm>
            <a:off x="928800" y="2286000"/>
            <a:ext cx="5357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外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内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B48-9797-4C51-A3A9-3A432D82B74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500120" y="1857240"/>
            <a:ext cx="5572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文本与表格的转换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拆分与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自动套用格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计算与排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内容跨页时表头的设置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50F-8CA3-4C14-80F6-2E7CC969C27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3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电子小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8800" y="1785600"/>
            <a:ext cx="61754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新年贺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招生简章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972-5169-45B4-9904-C2592C7D821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环境，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辑窗口的基本使用，包括文本输入、文本编辑、文本的保存与退出等。会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各种视图方便地查看文档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394-5B72-42DD-B252-F654C13DF6C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达到对图文混排中常用功能的熟练操作，如在制作贺卡的过程中，使读者掌握图片、剪贴画、艺术字、文本框等对象的插入及格式设置方法，为制作更复杂的综合排版奠定基础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B4DC-4993-4DE0-964E-9B6E5BC55B8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图片与剪贴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环绕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位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效果与样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自选图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与编辑艺术字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本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619B-59E0-46B5-986B-EEB60B581CB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599840" y="1357200"/>
            <a:ext cx="20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页面设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9" name="内容占位符 2"/>
          <p:cNvSpPr/>
          <p:nvPr/>
        </p:nvSpPr>
        <p:spPr>
          <a:xfrm>
            <a:off x="928800" y="2286000"/>
            <a:ext cx="74293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基本页面设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及纸张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填充效果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BE7E-DC66-4126-A1EB-4C5319CFF7D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图片与剪贴画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3" name="内容占位符 2"/>
          <p:cNvSpPr/>
          <p:nvPr/>
        </p:nvSpPr>
        <p:spPr>
          <a:xfrm>
            <a:off x="1285920" y="2357280"/>
            <a:ext cx="5786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外部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自带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收藏集”中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946-88CA-4BC1-B5CF-B2819029654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4168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环绕方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7" name="内容占位符 2"/>
          <p:cNvSpPr/>
          <p:nvPr/>
        </p:nvSpPr>
        <p:spPr>
          <a:xfrm>
            <a:off x="714240" y="2357280"/>
            <a:ext cx="77155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文字环绕方式介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环绕方式包括：嵌入型、四周型环绕、紧密型环绕、衬于文字下方、浮于文字上方、上下型环绕、穿越型环绕及编辑环绕顶点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的文字环绕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图片，选择图片工具的“格式”选项卡 ，在“排列”功能组中单击“文字环绕”按钮 ，选择合适的环绕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CBD6-E52E-4F6C-A768-CFCA761B634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位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直接拖动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利用“位置”按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进行精确定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81AC-7902-4958-BDD9-CF808C9AE81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大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拖动鼠标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调整图片大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裁剪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804-F262-430E-9481-CCBE57FBC9B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效果与样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9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调整图片的亮度与对比度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中的透明色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8A4F-490A-44EC-9C8A-F99669B5D40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自选图形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3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自选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图形的旋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自选图形的形状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组合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BB0-FE09-4087-84C9-905B54F4CE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与编辑艺术字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，在“文本”组中单击“艺术字”按钮 ，选择合适的艺术字样式，在弹出的“编辑艺术字文字”对话框输入文字后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更改艺术字外形、更改三维效果、更改艺术字颜色、更改阴影颜色等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884-9ED5-48A1-B803-1A0DFDA5C6E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图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6F85-EB1B-476E-871C-B748AE6AE86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使用文本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文本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使用内置样式的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竖排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文本框中的文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隐藏文本框的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2D5-5AE1-4B17-994F-15E076173D9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357200" y="1571760"/>
            <a:ext cx="5857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式的使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文档中插入脚注和尾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插入题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创建目录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邮件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修订功能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D39-4492-422C-B78D-9F5DAB97ED7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进一步掌握图文混排的基本方法，综合应用本章所学知识，制作一份图文表并茂的综合排版样张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A48-A3D2-43D9-926E-46EB65EB362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作标题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文字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学校概况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招生计划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招生专业人数比例”图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专业分布图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助学办法”与“继续深造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联系方式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、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356-88FE-425C-B907-22735D27953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5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142720"/>
            <a:ext cx="8258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当用户电脑中安装有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时，启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方法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单击“开始”→“程序”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Word 2007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如果桌面上已经创建了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快捷图标，可双击该快捷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02F-0066-496E-88E7-F92867B2C12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65120" y="135720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启动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857240" y="4357800"/>
            <a:ext cx="928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368-D3F3-43D6-B318-6F0504844F2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69440" y="1357200"/>
            <a:ext cx="40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界面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20" name="图片 6" descr="未命名-1.jpg"/>
          <p:cNvPicPr/>
          <p:nvPr/>
        </p:nvPicPr>
        <p:blipFill>
          <a:blip r:embed="rId1"/>
          <a:stretch/>
        </p:blipFill>
        <p:spPr>
          <a:xfrm>
            <a:off x="214200" y="1928880"/>
            <a:ext cx="8715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2285640"/>
            <a:ext cx="7500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以后，系统会自动生成一个名为“文档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空白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创建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“新建”，打开对话框后，选择“空白文档”，再单击右下方的“创建”按钮，系统便会生成一个新的文档，并将新文档作为当前文档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92D-8E8D-4A38-95CA-DE96B3EC11D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subin</dc:creator>
  <dc:description/>
  <dc:language>en-US</dc:language>
  <cp:lastModifiedBy>subin</cp:lastModifiedBy>
  <dcterms:modified xsi:type="dcterms:W3CDTF">2009-08-30T03:02:47Z</dcterms:modified>
  <cp:revision>166</cp:revision>
  <dc:subject/>
  <dc:title>计算机应用基础</dc:title>
</cp:coreProperties>
</file>